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8E8-0048-42BF-8C28-FC2082C9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CEB-954D-4452-A3AD-E1558CCD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3C4-A3E1-4D8E-8333-EE89E609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A13-5C83-4459-B731-532FB34C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9B2-1A6D-43D3-88E3-6FB05857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705-F487-4ACE-8E5F-E002ABDE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2BC-030F-43FF-8397-9CBF6F97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CC4-91CD-4BDF-9843-46E6430A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B6B-280E-4FEF-8F60-4E97E107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25C-97FC-448B-B683-8B959CC6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E5F-32B2-494E-A3C2-1D6FCA44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B0C-098F-4487-B091-DA006BB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F15C-1BFC-44B8-BCA4-D6D3BCD7A8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570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单页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357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762000" y="1844640"/>
            <a:ext cx="49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单页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单页模板的标签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395280" y="44280"/>
            <a:ext cx="857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单页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22T11:00:13Z</dcterms:modified>
  <cp:revision>77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