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AC6C-2BE5-4E97-8423-5E12D0E6F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7992-DB78-4EDF-AC49-476E3A88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BFD6-FA26-49AF-A707-930B357EF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D969-2D80-44B8-B5F3-7A878CD76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95BB-EEDC-441E-B4B2-391D7AC6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E467-5FD2-40A0-B061-718A092E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2B96-A4DB-4659-855C-00F0EFEB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2474-7C5C-4348-9892-8594123E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BB75-F834-4C71-82C8-CF20503A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2598-EA1A-4A2B-A6B9-3D70C21B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646A-E8DC-496E-94A3-497F6A07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905B-F214-4F6E-BEEF-422BBD2D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96C8-33B4-4CF1-8F19-6F2D2FD29D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6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41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会员中心模板制作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2643120" y="57150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支持网站：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www.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zzhaoz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.com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刘明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1357200" y="2286000"/>
            <a:ext cx="6158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登陆模板制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会员注册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找回密码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828720" y="1197000"/>
            <a:ext cx="1800360" cy="431280"/>
            <a:chOff x="828720" y="1197000"/>
            <a:chExt cx="1800360" cy="431280"/>
          </a:xfrm>
        </p:grpSpPr>
        <p:sp>
          <p:nvSpPr>
            <p:cNvPr id="46" name="未知"/>
            <p:cNvSpPr/>
            <p:nvPr/>
          </p:nvSpPr>
          <p:spPr>
            <a:xfrm>
              <a:off x="934920" y="1445400"/>
              <a:ext cx="1587600" cy="1828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828720" y="1197000"/>
              <a:ext cx="1800360" cy="379440"/>
            </a:xfrm>
            <a:prstGeom prst="rect">
              <a:avLst/>
            </a:prstGeom>
            <a:gradFill rotWithShape="0">
              <a:gsLst>
                <a:gs pos="0">
                  <a:srgbClr val="8bd1d1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本讲知识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1857240" y="3857760"/>
            <a:ext cx="60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如果还有什么疑问可以到加入本站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QQ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群一：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172089926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（满）    群二：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1721194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本站地址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ww.zzhaoz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201120" y="1785960"/>
            <a:ext cx="292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感谢收看本次教程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hape 5121"/>
          <p:cNvSpPr/>
          <p:nvPr/>
        </p:nvSpPr>
        <p:spPr>
          <a:xfrm>
            <a:off x="0" y="44280"/>
            <a:ext cx="8966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41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会员中心模板制作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4:45:02Z</dcterms:created>
  <dc:creator>Alan</dc:creator>
  <dc:description/>
  <cp:keywords/>
  <dc:language>en-US</dc:language>
  <cp:lastModifiedBy>USER</cp:lastModifiedBy>
  <cp:lastPrinted>1899-12-30T00:00:00Z</cp:lastPrinted>
  <dcterms:modified xsi:type="dcterms:W3CDTF">2011-11-01T11:11:47Z</dcterms:modified>
  <cp:revision>269</cp:revision>
  <dc:subject/>
  <dc:title>(第一讲)  PHP环境搭配和工具的使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