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E67B-F743-4C52-A213-57DEE0CC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6B6B-0D4F-497F-8850-34100EBB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51C-99D4-4F53-982D-20E4298A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1D46-08A6-4492-83CB-AB446DA4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60F0-B563-420B-8AEA-9EDAECA4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21A9-C1E2-4F17-8ACD-D331968A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4B5F-43F0-4D4D-96BC-6BC4C70A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25C-EDCB-4F83-8C33-B16830CF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7432-A298-4692-8E5D-2D91DCFB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384D-026F-47BF-828B-AE475DC3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DEDB-B369-4482-A040-44CABC5A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F12D-A627-4B36-9CE9-404239B2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4A8D-5113-4AD7-937E-776C688C2B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6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37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自定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模板及信息调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715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357200" y="2286000"/>
            <a:ext cx="615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自定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板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自定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容调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语句书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857240" y="3857760"/>
            <a:ext cx="60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一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（满）    群二：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1194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5121"/>
          <p:cNvSpPr/>
          <p:nvPr/>
        </p:nvSpPr>
        <p:spPr>
          <a:xfrm>
            <a:off x="0" y="44280"/>
            <a:ext cx="8966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37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自定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模板及信息调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10-27T11:33:26Z</dcterms:modified>
  <cp:revision>247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