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AED-3481-4E3A-8974-79FE41A4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414-FC75-443D-864F-0D27A0C2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B26-D315-49F3-A9C5-78804864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562-F370-4610-9CEF-47A9E94D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185-9D74-436E-A388-72DEB9FD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AD5-06E0-42B2-A22A-0FD75B4C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911-40E4-4B06-9A59-1D92DCD4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8779-1EB7-48D9-BC25-8BBEF2D6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E82-F9F2-4349-8B7A-5ADAF0A3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96D-929C-4BA5-A0FF-4852E8AE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B110-3685-4A93-AF84-DB150AAC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381-2D63-437F-BA00-628B023A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09C7-30D3-4333-BD43-5836735A33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570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企业网站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3578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762000" y="1844640"/>
            <a:ext cx="499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首页内容模板的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395280" y="44280"/>
            <a:ext cx="857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企业网站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09-18T11:43:02Z</dcterms:modified>
  <cp:revision>54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