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117-FC52-4265-B287-4423EE85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1C1-9EC3-48AC-95EB-19E0D425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B8A-0B96-4794-B097-081EA645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696-6615-4201-9984-315682BB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7E2-A1AB-42E9-A68E-92AD393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3B6-646E-429D-A23C-09753977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90F-670B-41DE-B1D8-BF4CA076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B67-1834-4DB4-A51D-A561FAD8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10B-FF72-402D-BC42-7F755D18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081-A490-466D-9A3F-37BFF30E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159-95CB-45F6-9DD2-24F9A936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63B-B9E1-4BF0-96AA-5A3A7CE2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131E-A031-4225-96D9-76B1AF2BD9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友情链接的两种调用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底部模板的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714240" y="385776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灵动标签调用友情链接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句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select * from [!db.pre!]enewslink where checked=1 and classid=0 order by myorder DESC ',20,24,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17T11:48:13Z</dcterms:modified>
  <cp:revision>196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