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A5C-EB43-4140-8CF0-421E35BF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99B-9A70-46BA-B73D-C63073F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E0E-F067-4D7A-938B-368EA317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FA0-E8F7-4B62-868A-B49A47E9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10A-5AB6-46F2-A8ED-25261ACE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69F-6F18-433D-88BB-5B196531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DB3-A898-4B5D-8091-FC9608C8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4D4-256F-4525-9965-56F82FE6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059-9392-4213-96DA-F467BAE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9B9-86F5-4391-B412-80182187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F18-C6DA-4150-A3D4-73B9441C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9D8-03C0-463E-8EB6-2222A465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3902-6404-40F4-931F-82D268258D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28840" y="2214720"/>
            <a:ext cx="6157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帝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视频教程到本节课就可以告一段落了，基本上在制作模板的时候用到的功能都给大家讲解完毕，本节课就给大家帝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台的一些零散的操作。从下节课开始，进入实战课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30T11:18:45Z</dcterms:modified>
  <cp:revision>145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