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B1B6-D6DE-4727-A6AA-45087381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BC26-B8EE-493E-A05A-6129B050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EB55-124D-4632-A158-4C7A677B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3D8-04C0-44DA-9F8E-F66E1A5F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48A-4012-4D96-A165-9EF72BF5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4C61-9BDE-41E5-8554-68052FFD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8A06-F456-4340-A604-F9DEB3BF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C508-E68C-4045-A27C-35F2B7AA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59E-01F5-4F37-B89D-C3A8034F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799-0203-4B81-89F7-E2A5EBDF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06E-9814-418D-BD7B-8C453C7B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344-EBD5-4730-9246-29020D3E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F788-E2CF-4754-90C8-6738C5DAAF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8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定义单页制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357200" y="2286000"/>
            <a:ext cx="615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自定义页面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自定义页面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一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（满）    群二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1194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0" y="4428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8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定义单页制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10-29T06:57:04Z</dcterms:modified>
  <cp:revision>253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