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6F0E-6439-436D-B3EC-7E742E58F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B83B-C063-4CAD-B9C9-4D4D6A84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6D47-F452-4E7D-8068-C659F6F62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B81D-E586-4ECA-8B06-D1C6C5F8D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947C-A344-4BB1-9CC8-A27DFFA3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D846-657A-491E-BA7D-18BD749A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DB08-51F6-465D-9AF4-8FD6CC05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DE00-64DD-46E8-9EFF-C2552CBCC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5680-3027-4843-897D-E8F8BFD4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39AF-8188-439D-A7C4-84D4A760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2EB1-B7A9-4307-B2F9-BAD3D82F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0BDE-8C2C-40F9-9BE2-196C205A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B11F-51CD-4744-A37A-44586B05A5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5708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自定义页面以及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2643120" y="53578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支持网站：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www.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zzhaoz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.com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刘明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4407120" y="1844640"/>
            <a:ext cx="49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自定义模板制作以及标签的调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自定义页面制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828720" y="1197000"/>
            <a:ext cx="1800360" cy="431280"/>
            <a:chOff x="828720" y="1197000"/>
            <a:chExt cx="1800360" cy="431280"/>
          </a:xfrm>
        </p:grpSpPr>
        <p:sp>
          <p:nvSpPr>
            <p:cNvPr id="46" name="未知"/>
            <p:cNvSpPr/>
            <p:nvPr/>
          </p:nvSpPr>
          <p:spPr>
            <a:xfrm>
              <a:off x="934920" y="1445400"/>
              <a:ext cx="1587600" cy="1828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828720" y="1197000"/>
              <a:ext cx="1800360" cy="379440"/>
            </a:xfrm>
            <a:prstGeom prst="rect">
              <a:avLst/>
            </a:prstGeom>
            <a:gradFill rotWithShape="0">
              <a:gsLst>
                <a:gs pos="0">
                  <a:srgbClr val="8bd1d1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本讲知识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1857240" y="385776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如果还有什么疑问可以到加入本站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QQ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群：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1720899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本站地址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ww.zzhaoz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201120" y="1785960"/>
            <a:ext cx="292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感谢收看本次教程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hape 5121"/>
          <p:cNvSpPr/>
          <p:nvPr/>
        </p:nvSpPr>
        <p:spPr>
          <a:xfrm>
            <a:off x="395280" y="44280"/>
            <a:ext cx="8570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自定义页面以及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4:45:02Z</dcterms:created>
  <dc:creator>Alan</dc:creator>
  <dc:description/>
  <cp:keywords/>
  <dc:language>en-US</dc:language>
  <cp:lastModifiedBy>USER</cp:lastModifiedBy>
  <cp:lastPrinted>1899-12-30T00:00:00Z</cp:lastPrinted>
  <dcterms:modified xsi:type="dcterms:W3CDTF">2011-09-23T11:09:01Z</dcterms:modified>
  <cp:revision>83</cp:revision>
  <dc:subject/>
  <dc:title>(第一讲)  PHP环境搭配和工具的使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