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E922-40B5-4BD2-B06B-1A5122536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F38A-C78F-4606-8D8A-87CBE9F0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E1AF-ECC9-490D-AA47-0ADE2079A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CF5D-4C5C-4A03-A4F7-1BE1020F5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DD21-B0F8-4F84-BD8E-329AAADE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C682-473A-4044-B92D-8A3F62ED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8890-1E32-4F1B-BA1C-5F32C7CD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6CE3-FF35-4F06-881E-EAED5172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463B-1F8C-4576-BF4E-39AE4456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FE56-CE17-4A70-8862-6C51E591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E569-C338-4EA9-834C-EBAE2F4C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5B40-66FE-4878-9E6C-9D0F7A29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14CC-C7B6-442C-8C36-87B9C74567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5708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自定义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调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2643120" y="5715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支持网站：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www.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zzhaoz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.com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刘明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557440" y="1844640"/>
            <a:ext cx="419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自定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语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28720" y="1197000"/>
            <a:ext cx="1800360" cy="431280"/>
            <a:chOff x="828720" y="1197000"/>
            <a:chExt cx="1800360" cy="431280"/>
          </a:xfrm>
        </p:grpSpPr>
        <p:sp>
          <p:nvSpPr>
            <p:cNvPr id="46" name="未知"/>
            <p:cNvSpPr/>
            <p:nvPr/>
          </p:nvSpPr>
          <p:spPr>
            <a:xfrm>
              <a:off x="934920" y="1445400"/>
              <a:ext cx="1587600" cy="1828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828720" y="1197000"/>
              <a:ext cx="1800360" cy="379440"/>
            </a:xfrm>
            <a:prstGeom prst="rect">
              <a:avLst/>
            </a:prstGeom>
            <a:gradFill rotWithShape="0">
              <a:gsLst>
                <a:gs pos="0">
                  <a:srgbClr val="8bd1d1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本讲知识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785880" y="31431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* from [!db.pre!]ecms_news where checked=1 order by id limit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1857240" y="38577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如果还有什么疑问可以到加入本站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QQ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群：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720899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本站地址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ww.zzhaoz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201120" y="178596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谢收看本次教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hape 5121"/>
          <p:cNvSpPr/>
          <p:nvPr/>
        </p:nvSpPr>
        <p:spPr>
          <a:xfrm>
            <a:off x="395280" y="44280"/>
            <a:ext cx="8570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自定义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调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45:02Z</dcterms:created>
  <dc:creator>Alan</dc:creator>
  <dc:description/>
  <cp:keywords/>
  <dc:language>en-US</dc:language>
  <cp:lastModifiedBy>USER</cp:lastModifiedBy>
  <cp:lastPrinted>1899-12-30T00:00:00Z</cp:lastPrinted>
  <dcterms:modified xsi:type="dcterms:W3CDTF">2011-09-25T11:08:31Z</dcterms:modified>
  <cp:revision>104</cp:revision>
  <dc:subject/>
  <dc:title>(第一讲)  PHP环境搭配和工具的使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