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1F1-8669-4BA2-AFDA-D6B70FFC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429-28DD-4D84-A44A-61C176EF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3D1-22E2-4C4D-939C-2867312C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28C-6863-440D-B8F7-98B2064F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F34-969B-49AC-BA8A-B58FB55B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B08-DAB4-417A-BCFF-9F92CD33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ED2-80EB-4DD9-B270-31A0F56C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32E-7277-49DA-9698-0CB80CC0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A83-B0E8-4BB4-85DF-345FADAE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C69-CD65-4224-8034-6D70BA96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5723-3DD5-4B20-A750-DE55AA26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A34-F90A-4555-9166-9FC16D54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87C0-25A1-45DA-A173-45BC748C29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570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企业网站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3578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762000" y="1844640"/>
            <a:ext cx="499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网站底部模板的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395280" y="44280"/>
            <a:ext cx="8570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企业网站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09-19T12:00:30Z</dcterms:modified>
  <cp:revision>57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