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0FE-6F69-4588-89C6-2B58C4B5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691-FCF3-449F-B4E6-BAD3788E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8DC-4969-4310-9812-730D6273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681-2EC1-47BD-8745-31D91F12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413-7CC8-4A60-9B2A-64951FEC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AD5-029A-4786-8A27-77BEDEF5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580-6354-4C22-BE3D-1A065A1F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A36-4146-458A-96DE-5B02EF0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656-5D3E-4864-AF48-1DE6E104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04F-34A1-4956-B66B-619C204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790-6F1D-449B-92E5-9FE295C8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E9A-5195-4F54-A403-3F8BF02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7E12-8B0D-42E6-8D94-1B37FA501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搜索表单与广告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7440" y="1844640"/>
            <a:ext cx="419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搜索标单制作与讲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调用的调用讲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928800" y="32860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帝国搜索表单解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me.net/doc/manual/template/html/searchfor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搜索制作与广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6T11:08:22Z</dcterms:modified>
  <cp:revision>11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