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FD8-E97A-4EE8-85F2-8F13E666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EB6-19DF-4548-97B0-609A8B67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C46-4D48-4AB2-8A41-B66FAB21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5BFC-96A9-4D22-9DFC-177978B8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325-8D28-406E-8AEB-A1D3EC2E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D4B6-6483-4A91-AC2B-FC1FB7EF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92ED-4CB4-4C79-9044-E31F1701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755-7A3F-4FE1-9CF3-3C3C52FE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C91-52BD-474F-9179-549DB933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51DE-28D1-4899-B897-39F15A1E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F655-152D-4210-80BB-72609B75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B9E9-AF2C-4464-BF8D-8ACF6E81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CD0F-8F7B-4B3B-97CE-8EB18162D8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内容采集及其他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357200" y="2286000"/>
            <a:ext cx="615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帝国采集系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帝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他零散的模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一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（满）    群二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1194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内容采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10-31T10:30:59Z</dcterms:modified>
  <cp:revision>264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