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278-A226-4CCC-9FC9-7C54B05A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E14-E41D-43BE-99F4-282DF506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C41-0973-4316-A248-F34FEF26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28F-3BBF-4B8F-BE61-9110A9A0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8CD-10B6-474C-A539-8DAD7325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613-A8C0-4B27-BD94-2B0F26E3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FA9-E46C-4987-8BA4-6005B376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2B6-E46A-4135-916C-ABA9EF1E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EDD-98C1-4975-B432-1ED2820B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004-8F71-4D99-9311-D2B92C72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CFE-8B60-4ECD-8E26-684F9048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B9A-6E95-4235-8C96-781C2AC2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FB0B-035A-4D7B-AF33-BFC27407F2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570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标签模板及标签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57440" y="1844640"/>
            <a:ext cx="419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标签模板讲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万能标签与灵动标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395280" y="44280"/>
            <a:ext cx="857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标签模板及标签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28T12:32:38Z</dcterms:modified>
  <cp:revision>128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