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8BA-E7B4-42B1-86D3-F7458DA6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D4E-932F-4A3D-A91C-DAD13D4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868-5DFD-4702-B3EB-5C7A64BC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4F5-C0B4-471B-87D8-09C1279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978-69E0-4872-9482-34D2EE23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074-FFB9-4EE5-8F38-80B9252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19D-3E94-47C7-A3FB-EEFDE63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86F-C14D-4BD5-B16C-472C03C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673-A446-4A44-B71F-43A6CC8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091-AB7B-46E0-A46C-7CBBA7C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9A5-D185-4B7D-AF98-E5ED379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C25-457A-4C99-8799-3D963D1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B3B7-80D4-4F24-B954-314757B85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列表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调用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句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14280" y="314316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unt(*) as total from [!db.pre!]ecms_news where checked=1 order by newstime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285920" y="392904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[!db.pre!]ecms_news where checked=1 order by newstime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列表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调用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4T12:36:57Z</dcterms:modified>
  <cp:revision>99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