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ACF-3689-495B-A5E2-85A6F57E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259-C0E0-4E31-8020-FA521947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BAD-F74E-47BE-B71B-34173414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7E0-D1B1-4C6B-A1BE-0E71CE93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B93-7474-446F-9FE7-42ED5D0F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63E-9DA0-4751-9BDF-EBEE845B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87C-D232-41CE-BCF0-1724EDE8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451-EA06-4430-93A4-EAA99EAB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092-C1EE-4521-A334-215826C0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151-E8F0-486C-9D5D-A82FD07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D19-4831-4132-AEED-DDBC1DAA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3FD-DE98-4922-AF3B-16A4366A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BE35-2188-44EB-B628-5212FAD51E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42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会员中心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本节课是“帝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制作的最后一节课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讲解如何制作会员中心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制作会员中心模板，如果需要特殊功能，要有一些程序编程的基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判断会员是否登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_COOKIE[$phome_cookievarpre.mlusername]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一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（满）    群二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1194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42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会员中心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1-02T10:09:05Z</dcterms:modified>
  <cp:revision>274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